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5D3F-3B1A-4EE5-9687-04F78C2CF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5134-BF0A-4594-9C56-23DCDCC49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D4D4-40BD-432C-9ED6-8CB2F71B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F806-158C-4ECA-9B5A-C4FB4008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A814-7C2B-41AA-9A8E-20628DB4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4C6-B529-4E50-A2EE-E80FB96AB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81CA-F283-433E-9DF7-E3D5D29F8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A67D-40F8-4D2E-9CCF-E199D849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7756-7FFA-4A93-A0CF-E14210E5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FA4F-91CB-4132-8CAB-3266D1E3C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3718-C341-4EE6-A9AD-0376BB458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F35E5F-9419-4977-BD52-089C88FDE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5DF5-571A-444A-AEFD-3DE5AFD0E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1D213F-73C1-4E6F-B34D-BB2D8944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EDBC97-8DDE-4BC7-8C74-08EAD665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150308-31C1-4185-9A5F-D8D80D1B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2E1E0C-8D88-453C-A016-536A05277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67B3CF-1883-4EE7-9889-8969A7A88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B5E477-511A-4AE4-830E-95EF05601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0F9C68-BE17-4E66-B2C3-C28F6CEA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CAC0-2804-4465-A3FF-B1F4BA5C6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C28007-5A0D-4D56-AAFD-ACBA92C4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B3AA07-BF5E-4261-B25A-047027F29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A11535-EFF5-431B-8352-C861904FA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E01-DA0A-4E0A-ACCA-679CFCCD7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A18D-9852-4567-A7BC-28B09E28E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F4F8-6531-4AD0-98E3-2EFCDA93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8397-916E-4B20-A663-1890EC104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FD9-E19F-4F3D-9E78-EEC7FBF14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E9EC-0D3A-4A63-A0E4-7BC82997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8657-03C5-4F83-A3C4-4C2987F01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3854880"/>
            <a:ext cx="6858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FC0D-9558-4696-B8AF-83D6620B7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312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FAFF-155D-47D9-BECE-E7B797D9F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385488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7560" y="385488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5960" y="385488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376C-88AA-4C57-8EC6-5EE942D715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03D4-F922-4A7F-B94E-69938D696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33C0-444E-42B0-BF56-6317F8173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BADF-BA87-42E7-BC5A-2C42E3CA8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42DC-0BB4-4215-8A19-888A20563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60912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5C95-C7DD-461D-ACFF-9E8A9F30F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FBDF-6269-40CC-8590-2B0A2A552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312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5989-F0C3-44E4-BB70-B44FD10B6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3854880"/>
            <a:ext cx="6858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CA9F-627C-462D-B8FF-59492A219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34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9A04-94F8-460C-A4AE-AD264E3B0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2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nthelp.com/map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s://www.youtube.com/watch?v=reXS_e3fTAk&amp;feature=related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224240" y="3990960"/>
            <a:ext cx="434340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_Black Landsca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886200" y="6094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572000" y="5246640"/>
            <a:ext cx="358128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works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ow Network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855960" y="0"/>
            <a:ext cx="0" cy="6858000"/>
          </a:xfrm>
          <a:prstGeom prst="line">
            <a:avLst/>
          </a:prstGeom>
          <a:ln w="9360">
            <a:solidFill>
              <a:srgbClr val="e7b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9360">
            <a:solidFill>
              <a:srgbClr val="e7b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e7b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 2: Data Link Layer Hardware - Switch/Bridg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70106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Switches amplify and retime signals; they area also capable of making intelligent forwarding decisions based on Layer 2 address information (a Media Access Control Address – MAC address Table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Switches read an entire packet before making a forwarding decision – slight higher latenc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Switches will only forward well-form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Switches collect the MAC addresses of devices in a MAC Table as they transmit data. The switch will use its MAC Table to forward packets out a specific port. This process allows multiple simultaneous transmissions – improving network throughpu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Switches will forward broadcast packets out all ports. If a packet is destined to an address that is not in the MAC Table it is forwarded out all por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ardware-swtich"/>
          <p:cNvPicPr/>
          <p:nvPr/>
        </p:nvPicPr>
        <p:blipFill>
          <a:blip r:embed="rId2"/>
          <a:stretch/>
        </p:blipFill>
        <p:spPr>
          <a:xfrm>
            <a:off x="4267080" y="4440240"/>
            <a:ext cx="45720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 3: Network Lay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760" y="1219320"/>
            <a:ext cx="4647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he Network Layer is responsible for transmitting data between two devices on possibly different networ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Network Layer protocols defin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Network layer addressing that can span beyond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gle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Network Layer protocols example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IP (and IPv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IPX/SPX (Nove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ppleTa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osi-layer-3"/>
          <p:cNvPicPr/>
          <p:nvPr/>
        </p:nvPicPr>
        <p:blipFill>
          <a:blip r:embed="rId2"/>
          <a:stretch/>
        </p:blipFill>
        <p:spPr>
          <a:xfrm>
            <a:off x="1676520" y="1371600"/>
            <a:ext cx="1590480" cy="525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headers-layer-3-2"/>
          <p:cNvPicPr/>
          <p:nvPr/>
        </p:nvPicPr>
        <p:blipFill>
          <a:blip r:embed="rId3"/>
          <a:stretch/>
        </p:blipFill>
        <p:spPr>
          <a:xfrm>
            <a:off x="3451320" y="4675320"/>
            <a:ext cx="5364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 3: Network Layer Hardware - Rout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14264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Routers forward traffic between possible diverse Layer 2 networks based on Layer 3 address information (a Route T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Routers read an entire packet before making a forwarding decision – having to process Layer 3 information deeper in the packet. This extra processing adds more latency than swit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Routers will only forward well-formed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Routers use a Route Table to collect network information from other networked routers (possibly spanning ISPs). The router will use its Route Table to forward packets to the next-hop router (the next router on the path to the packets final destinatio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Routers will not forward broadcast pac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ardware-router"/>
          <p:cNvPicPr/>
          <p:nvPr/>
        </p:nvPicPr>
        <p:blipFill>
          <a:blip r:embed="rId2"/>
          <a:stretch/>
        </p:blipFill>
        <p:spPr>
          <a:xfrm>
            <a:off x="5160960" y="4343400"/>
            <a:ext cx="36781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ircuit vs. Packet Switching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S vs VO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usa_blank"/>
          <p:cNvPicPr/>
          <p:nvPr/>
        </p:nvPicPr>
        <p:blipFill>
          <a:blip r:embed="rId1"/>
          <a:srcRect l="3501" t="3237" r="5350" b="2330"/>
          <a:stretch/>
        </p:blipFill>
        <p:spPr>
          <a:xfrm>
            <a:off x="2438280" y="2133720"/>
            <a:ext cx="5257800" cy="3573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932480" y="5715000"/>
            <a:ext cx="62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Backbone maps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thelp.com/map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s 4-7: “Application” Laye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760" y="1371240"/>
            <a:ext cx="4647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he “Application” Layers are responsible for transmitting data between two devices on possibly different networks – data could be in the form of email, web page, or file downlo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“Application” Layer protocols defin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Connection-based (i.e. request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ransmission to guarantee delivery) an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Connectionless communication form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Port-base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CP and UDP are two of the most common protocols in thi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osi-layer-4-7"/>
          <p:cNvPicPr/>
          <p:nvPr/>
        </p:nvPicPr>
        <p:blipFill>
          <a:blip r:embed="rId2"/>
          <a:stretch/>
        </p:blipFill>
        <p:spPr>
          <a:xfrm>
            <a:off x="1752480" y="1371600"/>
            <a:ext cx="159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s 4-7: “Application” Laye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is connection oriented (devices must establish a connection before transmission begins and send response after receipt) making it reliable over packet-switched networ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DP is connectionless (server sends packets in ‘fire and forget’ mode) making it less  reliable for communication; the application itself must process any errors and check for reliable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osi-layer-4-7"/>
          <p:cNvPicPr/>
          <p:nvPr/>
        </p:nvPicPr>
        <p:blipFill>
          <a:blip r:embed="rId2"/>
          <a:stretch/>
        </p:blipFill>
        <p:spPr>
          <a:xfrm>
            <a:off x="1762200" y="1371600"/>
            <a:ext cx="1590480" cy="525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eaders-layer-4-2"/>
          <p:cNvPicPr/>
          <p:nvPr/>
        </p:nvPicPr>
        <p:blipFill>
          <a:blip r:embed="rId3"/>
          <a:stretch/>
        </p:blipFill>
        <p:spPr>
          <a:xfrm>
            <a:off x="3505320" y="4260960"/>
            <a:ext cx="5410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s 4-7: “Application” Laye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90760" y="1218960"/>
            <a:ext cx="46479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rt is a number used for host-to-host communication, identifying which higher-level protocol or application (process) should receive a message. Each application has a designated (often well-known) port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Layer protocols and their ports includ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HTTP (TCP 80), FTP (TCP 20,21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HCP (UDP 67/68) automatically assigns IP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elnet (TCP 23) used for remote conso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osi-layer-4-7"/>
          <p:cNvPicPr/>
          <p:nvPr/>
        </p:nvPicPr>
        <p:blipFill>
          <a:blip r:embed="rId2"/>
          <a:stretch/>
        </p:blipFill>
        <p:spPr>
          <a:xfrm>
            <a:off x="1762200" y="1371600"/>
            <a:ext cx="1590480" cy="5257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osi-layer-4-7-ports"/>
          <p:cNvPicPr/>
          <p:nvPr/>
        </p:nvPicPr>
        <p:blipFill>
          <a:blip r:embed="rId3"/>
          <a:stretch/>
        </p:blipFill>
        <p:spPr>
          <a:xfrm>
            <a:off x="5292720" y="3733920"/>
            <a:ext cx="22147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work Laye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534520" y="4267080"/>
            <a:ext cx="304560" cy="23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534520" y="1371600"/>
            <a:ext cx="457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OSI-full-data-hardware"/>
          <p:cNvPicPr/>
          <p:nvPr/>
        </p:nvPicPr>
        <p:blipFill>
          <a:blip r:embed="rId2"/>
          <a:stretch/>
        </p:blipFill>
        <p:spPr>
          <a:xfrm>
            <a:off x="1981080" y="1827360"/>
            <a:ext cx="640080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work Oper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Connect patch cable to NIC card on computer and network jack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The ethernet switch learns the computer’s MAC address and enters it in its MAC 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The computer receives an IP address (via DHCP protoco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The computer launches a web-browser and requests a connection to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ogl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The DNS protocol translates the IP Name (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oogle.co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 to an IP Addres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The computer tests is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oogle.co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is on its LAN; if not forward packet to default gateway (via LAN switches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Routers between computer and google forward the packets hop-by-hop based on their route table information (crossing multiple ISPs in the proce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4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ardware-internet"/>
          <p:cNvPicPr/>
          <p:nvPr/>
        </p:nvPicPr>
        <p:blipFill>
          <a:blip r:embed="rId5"/>
          <a:stretch/>
        </p:blipFill>
        <p:spPr>
          <a:xfrm>
            <a:off x="3041640" y="4343400"/>
            <a:ext cx="45846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224240" y="3990960"/>
            <a:ext cx="434340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_Black Landsca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3886200" y="6094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4572000" y="5246640"/>
            <a:ext cx="358128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works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Threats and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3855960" y="0"/>
            <a:ext cx="0" cy="6858000"/>
          </a:xfrm>
          <a:prstGeom prst="line">
            <a:avLst/>
          </a:prstGeom>
          <a:ln w="9360">
            <a:solidFill>
              <a:srgbClr val="e7b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9360">
            <a:solidFill>
              <a:srgbClr val="e7b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e7b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720" y="1371240"/>
            <a:ext cx="5790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twork communication is accomplished by passing data through a logical framework of layered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scribe the responsibilities, protocols, and hardware associated with network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scribe how to secure network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5640" y="114300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security threats can come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al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Insider 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security threats attempt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teal or manipulate data off the network or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Gain control systems (install zombie processes, roo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ts, or spam relay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-Generate denial-of-service (DOS) conditions (att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cpu, or memory of networked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Physical Layer (Layer 1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Layer attacks rely on having access to the target’s transmission media (physical cabling, RF frequency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#1: Choose transmission media wis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RF is much easier to “sniff” (capture network traffic off the media) than UTP or fiber-optic c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#2: Avoid Hu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ubs repeat traffic out all ports – makes it easy to sniff traffic by just plugging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security-l1-hub"/>
          <p:cNvPicPr/>
          <p:nvPr/>
        </p:nvPicPr>
        <p:blipFill>
          <a:blip r:embed="rId2"/>
          <a:stretch/>
        </p:blipFill>
        <p:spPr>
          <a:xfrm>
            <a:off x="4746600" y="4521240"/>
            <a:ext cx="36115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Physical Layer (Layer 1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80720" y="1371600"/>
            <a:ext cx="6324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#3: Protect access to wireless access-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se lists of authorized MAC addresses to make sure only authorized devices can connect to the access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Use encryption keys (WEP) to protect from unauthorized eavesdropping. WPA is stronger than W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security-l1-ap"/>
          <p:cNvPicPr/>
          <p:nvPr/>
        </p:nvPicPr>
        <p:blipFill>
          <a:blip r:embed="rId2"/>
          <a:stretch/>
        </p:blipFill>
        <p:spPr>
          <a:xfrm>
            <a:off x="4952880" y="4768920"/>
            <a:ext cx="32004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Data Link Layer (Layer 2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Layer attacks rely on having access to the target’s 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#1: Protect switch’s MA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ttackers can try to ‘poison’ the MAC Table – which can make the switch function more like a hub forwarding traffic out all ports, then sniff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Use manageable switches so that MAC addresses in MAC table can be specified and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security-l2-switch"/>
          <p:cNvPicPr/>
          <p:nvPr/>
        </p:nvPicPr>
        <p:blipFill>
          <a:blip r:embed="rId2"/>
          <a:stretch/>
        </p:blipFill>
        <p:spPr>
          <a:xfrm>
            <a:off x="4460760" y="4327560"/>
            <a:ext cx="41846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Data Link Layer (Layer 2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#2: Secure management access to network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on’t let attacker use the switch as a platform for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ks (secure Telnet, HTTP, and management protoc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or manageable switches, change default user ID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s, update patch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ost switches have a ‘port-mirroring’ function tha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ful for troubleshooting – also makes it easy to re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to an attac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security-l2-switch"/>
          <p:cNvPicPr/>
          <p:nvPr/>
        </p:nvPicPr>
        <p:blipFill>
          <a:blip r:embed="rId2"/>
          <a:stretch/>
        </p:blipFill>
        <p:spPr>
          <a:xfrm>
            <a:off x="4460760" y="4327560"/>
            <a:ext cx="41846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Data Link Layer (Layer 2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52480" y="15998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#3: Some enterprise-level switches suppor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lt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ffic based on source/destination  IP-address, port, or MAC address (still forward based on MAC 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Users\Scott_Day\Desktop\policy-mgr-1.jpg"/>
          <p:cNvPicPr/>
          <p:nvPr/>
        </p:nvPicPr>
        <p:blipFill>
          <a:blip r:embed="rId1"/>
          <a:stretch/>
        </p:blipFill>
        <p:spPr>
          <a:xfrm>
            <a:off x="1752480" y="3124080"/>
            <a:ext cx="71154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Data Link Layer (Layer 2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28800" y="3824280"/>
            <a:ext cx="6858000" cy="23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:\Users\Scott_Day\Desktop\policy-mgr-2.jpg"/>
          <p:cNvPicPr/>
          <p:nvPr/>
        </p:nvPicPr>
        <p:blipFill>
          <a:blip r:embed="rId1"/>
          <a:stretch/>
        </p:blipFill>
        <p:spPr>
          <a:xfrm>
            <a:off x="1006560" y="1905120"/>
            <a:ext cx="8137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Network Layer (Layer 3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33720" y="137160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er 3 attacks rely can originate from anywhere – inside or outside a target’s local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#1: Don’t let attacker use the router as a platform for other attacks (secure Telnet, HTTP, and management protocols) via strong UserID and PW manage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change default userID, PWs, update patch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#2: Only accept Route Table information from trusted internal ro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security-l3-router"/>
          <p:cNvPicPr/>
          <p:nvPr/>
        </p:nvPicPr>
        <p:blipFill>
          <a:blip r:embed="rId2"/>
          <a:stretch/>
        </p:blipFill>
        <p:spPr>
          <a:xfrm>
            <a:off x="4583160" y="4327560"/>
            <a:ext cx="39402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Network Layer (Layer 3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33720" y="137160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 #3: Filter access of outside traffic to inside resources. How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routers, use Access Control Lists (ACLs) to check incoming traffic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helps prevent IP Spoofing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security-l3-router"/>
          <p:cNvPicPr/>
          <p:nvPr/>
        </p:nvPicPr>
        <p:blipFill>
          <a:blip r:embed="rId2"/>
          <a:stretch/>
        </p:blipFill>
        <p:spPr>
          <a:xfrm>
            <a:off x="4583160" y="4327560"/>
            <a:ext cx="39402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Network Layer (Layer 3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28800" y="1371600"/>
            <a:ext cx="68580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outer ACLs support filtering traffic based on source/destination IP-address, source/destination ports, and sometimes MAC addr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CLs can be applied to in-bound and out-bound traffic on a specific router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CLs typically have a default DROP ANY ANY rule at the end of its rul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00200" y="380952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Ethernet0/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address 10.1.1.1 255.255.255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access-group 101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-list 101 remark permit tel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-list 101 permit tcp host 10.1.1.2 host 172.16.1.1 eq tel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ircuit vs. Packet Switching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S vs VO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usa_blank"/>
          <p:cNvPicPr/>
          <p:nvPr/>
        </p:nvPicPr>
        <p:blipFill>
          <a:blip r:embed="rId1"/>
          <a:srcRect l="3501" t="3237" r="5350" b="2330"/>
          <a:stretch/>
        </p:blipFill>
        <p:spPr>
          <a:xfrm>
            <a:off x="2438280" y="2133720"/>
            <a:ext cx="5257800" cy="3573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908360" y="6019920"/>
            <a:ext cx="62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Backbone maps at http://www.nthelp.com/map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Network Layer (Layer 3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057400" y="137160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#4: Filter access of outside traffic to inside resources.  How? Use dedicated Firewall 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twork firewalls are routers that specialize in filtering (accepting or denying) traffic into and out of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irewalls filter traffic based on a list of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irewall rules are processed in sequential order (ordering of rules is critical to effective secur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rewalls have a final, default rule that drops all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057400" y="3962520"/>
          <a:ext cx="6705720" cy="2455920"/>
        </p:xfrm>
        <a:graphic>
          <a:graphicData uri="http://schemas.openxmlformats.org/drawingml/2006/table">
            <a:tbl>
              <a:tblPr/>
              <a:tblGrid>
                <a:gridCol w="857160"/>
                <a:gridCol w="1059120"/>
                <a:gridCol w="1036440"/>
                <a:gridCol w="949320"/>
                <a:gridCol w="887400"/>
                <a:gridCol w="1054080"/>
                <a:gridCol w="862200"/>
              </a:tblGrid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le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ination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Port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ination Port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6.2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2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6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(Teln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6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2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(Teln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6.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(mai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Network Layer (Layer 3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28800" y="1371600"/>
            <a:ext cx="6858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828800" y="3824280"/>
            <a:ext cx="6858000" cy="23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Scott_Day\Desktop\firewall policy.jpg"/>
          <p:cNvPicPr/>
          <p:nvPr/>
        </p:nvPicPr>
        <p:blipFill>
          <a:blip r:embed="rId1"/>
          <a:stretch/>
        </p:blipFill>
        <p:spPr>
          <a:xfrm>
            <a:off x="344520" y="1371600"/>
            <a:ext cx="8799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“Application” Layers (Layers 4-7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’ Layer attacks rely can originate from anywhere – inside or outside a target’s local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 #1: Use Intrusion Protection Systems to detect/block network scans, probes, and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trusion Prevention Systems look at patterns of network traffic from network devices (traffic could be spread across multiple packe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- Intrusion Prevention Systems can block traffic based on payload contents – acting like an ‘application layer firewal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f router/switch compromised might see many access attempts to application or database using  default IDs/PWs. IPS would watch for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twork Security – “Application” Layers (Layers 4-7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 #2: Use Virtual Private Networks to secure communication between network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Data is encrypted between network devices to prevent people from sniffing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PNs can connect remote-clients to home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PNs can connect two corporate networks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work Laye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480" y="1371240"/>
            <a:ext cx="3657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ternational Standards Organization has developed the Open Systems Interface (OSI) Model – the defacto standard for defining network lay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Segmenting network operation into layers promotes flexible and interoperable network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layer has a set of operations it performs on network data – receiving dta from an adjacent layer and forwarding it on to the other adjacent 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Network devices don’t have to use every layer in the OSI model; but if they want to communicate the layers (and associated protocols) they use must mat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osi-full"/>
          <p:cNvPicPr/>
          <p:nvPr/>
        </p:nvPicPr>
        <p:blipFill>
          <a:blip r:embed="rId2"/>
          <a:stretch/>
        </p:blipFill>
        <p:spPr>
          <a:xfrm>
            <a:off x="1828800" y="1371600"/>
            <a:ext cx="2992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 1: Physical Lay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The Physical Layer is responsible for transmitting bits across a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Physical Layer protocols defin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Media (UTP, coax, fiber-optic, wireles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Cable Connectors (RJ-45, F-Connector, SC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Signal Encoding (electrical, optical, RF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ransmission Speed (10, 100, 1000, or 11 Mb/sec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ransmission Distance (100m., 5Km., 70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osi-layer-1"/>
          <p:cNvPicPr/>
          <p:nvPr/>
        </p:nvPicPr>
        <p:blipFill>
          <a:blip r:embed="rId2"/>
          <a:stretch/>
        </p:blipFill>
        <p:spPr>
          <a:xfrm>
            <a:off x="1752480" y="1371600"/>
            <a:ext cx="159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 1: Physical Lay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Physical Layer Component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ernet            WiF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802.3              802.11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UTP/Cat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2.4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RJ-45               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Manchester     DS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10 Mb/sec        11 Mb/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100 meters       7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osi-layer-1"/>
          <p:cNvPicPr/>
          <p:nvPr/>
        </p:nvPicPr>
        <p:blipFill>
          <a:blip r:embed="rId2"/>
          <a:stretch/>
        </p:blipFill>
        <p:spPr>
          <a:xfrm>
            <a:off x="1752480" y="1371600"/>
            <a:ext cx="1590840" cy="52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eaders-layer-1"/>
          <p:cNvPicPr/>
          <p:nvPr/>
        </p:nvPicPr>
        <p:blipFill>
          <a:blip r:embed="rId3"/>
          <a:stretch/>
        </p:blipFill>
        <p:spPr>
          <a:xfrm>
            <a:off x="4267080" y="4408560"/>
            <a:ext cx="4572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 1: Physical Layer Hardware - Hub/Repeat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bs amplify and retime signals – after regenerating a signal from one port the signal is forwarded out all por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bs forward traffic very quickly – add very little latency to network transmi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Hubs only accommodate a single data transmission at any point i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ardware-hub"/>
          <p:cNvPicPr/>
          <p:nvPr/>
        </p:nvPicPr>
        <p:blipFill>
          <a:blip r:embed="rId2"/>
          <a:stretch/>
        </p:blipFill>
        <p:spPr>
          <a:xfrm>
            <a:off x="4746600" y="4422600"/>
            <a:ext cx="3611520" cy="2111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2057400" y="3776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ww.youtube.com/watch?v=reXS_e3fTAk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 2: Data Link Lay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The Data Link Layer is responsible for forwarding chunks of data (packets) between two devices on the same netw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Data Link Layer protocols defin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ddressing within a networ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he amount of data within a packet (min and ma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Error-checking for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osi-layer-2"/>
          <p:cNvPicPr/>
          <p:nvPr/>
        </p:nvPicPr>
        <p:blipFill>
          <a:blip r:embed="rId2"/>
          <a:stretch/>
        </p:blipFill>
        <p:spPr>
          <a:xfrm>
            <a:off x="1752480" y="1371600"/>
            <a:ext cx="159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yer 2: Data Link Lay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760" y="12952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ata Link Layer protocols can be categorized as Local Area Networks (LANs), Wide Area Networks (WANs), or Metropolitan Area Networks (MANs)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ata Link Layer protocols includ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al (T1, DS3, OC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rcRect l="41011" t="0" r="36742" b="0"/>
          <a:stretch/>
        </p:blipFill>
        <p:spPr>
          <a:xfrm>
            <a:off x="0" y="0"/>
            <a:ext cx="1574640" cy="6845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osi-layer-2"/>
          <p:cNvPicPr/>
          <p:nvPr/>
        </p:nvPicPr>
        <p:blipFill>
          <a:blip r:embed="rId2"/>
          <a:stretch/>
        </p:blipFill>
        <p:spPr>
          <a:xfrm>
            <a:off x="1752480" y="1371600"/>
            <a:ext cx="1590840" cy="5257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eaders-layer-2-2"/>
          <p:cNvPicPr/>
          <p:nvPr/>
        </p:nvPicPr>
        <p:blipFill>
          <a:blip r:embed="rId3"/>
          <a:stretch/>
        </p:blipFill>
        <p:spPr>
          <a:xfrm>
            <a:off x="3733920" y="4114800"/>
            <a:ext cx="4876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2:53:25Z</dcterms:created>
  <dc:creator>Scott_Day</dc:creator>
  <dc:description/>
  <dc:language>en-US</dc:language>
  <cp:lastModifiedBy>Kobelsky, Kevin</cp:lastModifiedBy>
  <dcterms:modified xsi:type="dcterms:W3CDTF">2016-05-22T23:31:57Z</dcterms:modified>
  <cp:revision>51</cp:revision>
  <dc:subject/>
  <dc:title>Slide 1</dc:title>
</cp:coreProperties>
</file>